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4AFD-386E-4074-BB98-B532B6304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318F-7291-4C13-A6CF-64A8FE435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4502-BE7F-4507-859D-F1B8F65D1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5EDD-507D-4BB9-A184-508AACF77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EC6B-8A19-4016-8FC9-C43762DAE2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1F06-2266-48BB-A540-941733565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26B9-015A-442B-9787-E48D409E9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DA89-E2B1-4551-AB11-EC3BEF49F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A04F-E7F4-49EA-9FAE-0419FF4FE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7615-4E9E-4CDE-809C-39E184867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9071-5A2E-41E7-B7DC-4C393590A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6D55-2E90-4CE2-AA3A-8EC01D168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704-B0FE-4223-89E1-AEB186C314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C4B-9947-4B17-9B96-4EE90E43F5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E14-0333-420D-B8C1-E9C582502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A196-7933-43C5-AA13-4B37ECFD5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824-B988-47BC-92F6-F8FEDF8CB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5314-9145-4109-8E13-C2FE1AE88B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5C58-A8BF-460F-AE79-68B7899B7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B817-E415-40FA-90E4-B24DB1AA1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320-D82B-426B-98ED-0AF3069CD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500B-3950-43D3-A86A-B3A1B83DA4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D5B7-5CF6-49EC-BB74-24218414C8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26CF-60BA-409D-8D82-E4F03A7E8B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963A-FD63-4184-8729-6D8740355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DF3E-A503-4419-A8E0-977B36E01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643-450B-4A34-AF41-AAE23A146E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A1C0-F30C-4BF7-9544-332BA7F1F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81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8A1-AD92-46C1-8726-FC44969BAA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3C71-1498-4D43-828B-E0B0F900AE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ECE-68F8-4C54-854A-EB19FF88C6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F9CA-036D-4BCF-ACE9-B0A360F7D3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31:10Z</dcterms:modified>
  <cp:revision>23</cp:revision>
  <dc:subject/>
  <dc:title>&lt;Title&gt;</dc:title>
</cp:coreProperties>
</file>